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4FC-3F76-408C-9388-0C8DBEA6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D06-92BF-4851-83D3-24C818EB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DF4-DC5D-4C17-89BD-9A770944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5DD-A923-4E92-8AD2-C5815E4D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083-261A-4505-8580-0E8A83E9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A1D-71E4-43EC-A6F3-63454A8F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375-A324-4CA6-B1AF-2FB4CC6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529-B3A1-4868-AD68-AF03C88E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FA8-0A62-4D2C-B60C-1AD2AFF8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DE8-6E60-44A0-B7F4-ABF251D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BBE-D8DC-4F7A-9B26-AB668CA1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3C1-8451-4FF5-9C89-00DC702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A010-26A6-40AE-9A22-F9ECC547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33cc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N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 rot="20377800">
            <a:off x="4191120" y="3581280"/>
            <a:ext cx="1218960" cy="1905120"/>
          </a:xfrm>
          <a:prstGeom prst="upArrow">
            <a:avLst>
              <a:gd name="adj1" fmla="val 50000"/>
              <a:gd name="adj2" fmla="val 39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0" y="12193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5715000" y="2743200"/>
            <a:ext cx="2286000" cy="1066680"/>
          </a:xfrm>
          <a:prstGeom prst="leftArrow">
            <a:avLst>
              <a:gd name="adj1" fmla="val 50000"/>
              <a:gd name="adj2" fmla="val 535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6324480" y="0"/>
            <a:ext cx="1524240" cy="2819520"/>
          </a:xfrm>
          <a:prstGeom prst="downArrow">
            <a:avLst>
              <a:gd name="adj1" fmla="val 25519"/>
              <a:gd name="adj2" fmla="val 532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 rot="617400">
            <a:off x="973080" y="3211560"/>
            <a:ext cx="2971800" cy="2819520"/>
          </a:xfrm>
          <a:custGeom>
            <a:avLst/>
            <a:gdLst>
              <a:gd name="textAreaLeft" fmla="*/ 990720 w 2971800"/>
              <a:gd name="textAreaRight" fmla="*/ 2545560 w 2971800"/>
              <a:gd name="textAreaTop" fmla="*/ 1623960 h 2819520"/>
              <a:gd name="textAreaBottom" fmla="*/ 2414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43491 C -0.05399 0.35607 -0.10538 0.31514 -0.14531 0.33757 C -0.18646 0.35977 -0.19983 0.43838 -0.17552 0.5163 C -0.15052 0.59399 -0.16389 0.67144 -0.20521 0.69433 C -0.24462 0.71699 -0.29653 0.67561 -0.32101 0.59722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51 -0.22105 C -0.13299 -0.16995 0.00972 -0.48902 0.06476 -0.23492 C 0.00972 -0.48902 0.27292 -0.27954 0.07622 -0.22613 C 0.27292 -0.27954 0.12986 0.03884 0.06997 -0.21226 C 0.12986 0.03884 -0.13299 -0.16995 0.05851 -0.22105 Z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0.28508 C 0.35469 0.28485 0.25903 0.17757 0.25885 0.17734 C 0.18368 0.08254 0.17014 0.003 0.20122 -0.07677 C 0.21684 -0.11792 0.24392 -0.14567 0.27674 -0.16 C 0.30035 -0.16948 0.31753 -0.18844 0.32795 -0.21549 C 0.34809 -0.26659 0.33351 -0.33041 0.29722 -0.37549 C 0.29705 -0.37526 0.25295 -0.42937 0.25295 -0.42867 C 0.25295 -0.42937 0.34757 -0.31815 0.34878 -0.31792 C 0.42153 -0.22359 0.43559 -0.14497 0.4059 -0.06729 C 0.38941 -0.02613 0.36128 0.00416 0.32622 0.01849 C 0.3059 0.02844 0.28785 0.0467 0.27813 0.07167 C 0.25903 0.12254 0.27205 0.18636 0.30903 0.23214 C 0.3092 0.23214 0.35434 0.28508 0.35469 0.28485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5 0.05642 L 0.25643 -0.23931 L 0.10087 0.10497 L 0.30625 -0.18983 L 0.15226 0.15607 L 0.35608 -0.13988 L 0.20226 0.20486 L 0.40556 -0.0911 L 0.25157 0.25434 L 0.45677 -0.04023 L 0.30122 0.3052 L 0.50712 0.00994 L 0.35139 0.35353 L 0.55625 0.05827 L 0.40226 0.4037 L 0.60591 0.10821 L 0.45209 0.45434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0.04971 C 0.38941 -0.06196 0.26268 -0.15861 0.09289 -0.16531 C -0.06944 -0.17364 -0.22118 -0.09872 -0.23125 0.00971 C -0.24392 0.1096 -0.1375 0.20301 0.01459 0.20971 C 0.15365 0.2148 0.28559 0.15307 0.29566 0.05989 C 0.30573 -0.0252 0.21684 -0.10543 0.08802 -0.11214 C -0.03107 -0.11699 -0.14288 -0.0652 -0.15034 0.01295 C -0.15781 0.08301 -0.08698 0.15122 0.01945 0.15469 C 0.1158 0.15977 0.20677 0.11977 0.21476 0.05642 C 0.21962 -0.000460000000000002 0.16632 -0.05526 0.08282 -0.05849 C 0.00938 -0.06196 -0.06406 -0.0319 -0.06944 0.01642 C -0.0743 0.05804 -0.03645 0.09804 0.02466 0.10151 C 0.07535 0.10474 0.12848 0.08648 0.13108 0.05318 C 0.13594 0.02636 0.1158 -0.00208 0.07796 -0.00531 C 0.04723 -0.00531 0.01684 0.00139 0.01198 0.01966 C 0.00938 0.03145 0.01459 0.04301 0.02952 0.04786 C 0.03698 0.04971 0.04236 0.04971 0.04983 0.04786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6576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0066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1Z</dcterms:created>
  <dc:creator>CGB</dc:creator>
  <dc:description/>
  <dc:language>en-US</dc:language>
  <cp:lastModifiedBy>CGB</cp:lastModifiedBy>
  <dcterms:modified xsi:type="dcterms:W3CDTF">2008-06-10T14:15:32Z</dcterms:modified>
  <cp:revision>6</cp:revision>
  <dc:subject/>
  <dc:title>The Cat N Mouse Game</dc:title>
</cp:coreProperties>
</file>